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344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11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4BA83-FC26-4D0C-93C4-35D721D8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2E18F-E790-4F21-A886-11E9F58F5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B3173-8F49-471E-BE31-7A5F845E6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BAF4F-B439-43C2-AE4E-C1A986051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E9200-4944-40AA-ABA5-83A6CA4E9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ED6D8-96D9-441F-8F44-9CDC0F275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27715-A575-4B04-A03E-563AFFCE3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05109-423A-4AAF-BFE7-9DB9DF986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E99BA-774B-46B2-857D-F77F7DE6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7714C-0160-4414-B0D6-E73276FF4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DA3C4-2849-4399-880B-FF1B1B5D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44B6B-BEF5-4409-B9AD-A2106404B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254CE-9460-4C24-AAF7-EF5E8381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F383-054A-41AA-8839-B63104BAC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13641-24EB-473C-B8D6-42CDF085D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62D6C-0116-4E24-848F-26950AE6E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81938-153B-4FB5-B91F-8F70397F6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81E8-4507-4659-9270-245332E6D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C96F6-B4B9-495D-9FAA-9F6A2EDF0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2E03-9355-4F14-912B-FD6EA2134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7013-8298-4B5F-8C33-00B15578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98F09-2804-45E5-A027-9556E1FA1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BEB9D-CA51-4D35-9175-516876F0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51A9-6B54-4BFA-B5E2-18142F86D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0DA93-BD86-427F-AFD0-5F61408F2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BDF89-BEC6-4C5C-8686-37EF860AC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62005-C661-4877-ACC2-F5598EF49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3B785-9D83-4D33-99B0-C3E6E988F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90F5-58A9-4B83-BABC-6B48A4DFC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28F21-BDD1-49A6-A167-58E1F4F86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1A34B-CD06-4751-806B-3C989994C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8FBF3-9232-442E-BE96-D9B38519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E860F-5910-4207-82C1-DB664821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693D7-3BC9-4E94-A0C1-0836FF1D8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F5B8-C592-433F-9B90-A6355266E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32A3F-12A3-44BE-8820-4E7512761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92F0D-5AC8-4428-B423-12CC13222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D6F2D-E761-47C0-AD00-949BBADF2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F2305-DD31-4941-BC37-8F4CF0B7E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A879-8F76-475F-8B5C-3B90C4617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7996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880" y="4005720"/>
            <a:ext cx="7996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1314-3F17-4F75-8694-0CABBDE45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888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640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FD90-848B-4C99-964A-7873CEAB6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840" y="160488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440" y="160488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8880" y="400572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840" y="400572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440" y="4005720"/>
            <a:ext cx="25747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C247-66C9-477E-A681-D5F59D51C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8880" y="1604880"/>
            <a:ext cx="79963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8263-0982-4E96-A288-AB1202E1D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79963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8EE5-7310-4865-B30F-2ED7F9204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EDCD-9DBE-4ACC-A956-045716C4C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32D0-BDB2-4B92-B7F8-137251C62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8880" y="488520"/>
            <a:ext cx="7996320" cy="42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BB7F-DB27-49D1-AA2A-AE96C5EB3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888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86A1-C33E-43EA-9777-156E444E0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6400" y="400572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484C-90AB-4244-931E-5BD82EA12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88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6400" y="1604880"/>
            <a:ext cx="390204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880" y="4005720"/>
            <a:ext cx="7996320" cy="2192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4013-8D40-4AA1-A740-18B58ACC3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6320" cy="9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880" y="1604880"/>
            <a:ext cx="79963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88880" y="6346800"/>
            <a:ext cx="2121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49640" y="6346800"/>
            <a:ext cx="2884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63880" y="6346440"/>
            <a:ext cx="211788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80607-2300-4AA4-A4EB-E856CBE37E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ensus.gov/prod/1/gen/interior/hunt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012 North Carolina Graduation Proje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: Alex Men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y product I planted five food plots at a farm in Beaufort County North Carolina in June of 201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extreme drought and Hurricane Irene, these food plots failed. Some flooded while others dried u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880" y="488520"/>
            <a:ext cx="799776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390204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86040" y="1604520"/>
            <a:ext cx="390204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429000" cy="3029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724280" y="1771560"/>
            <a:ext cx="350532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2564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24196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241960" y="396396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025640" y="3963960"/>
            <a:ext cx="2876400" cy="21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2564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4196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241960" y="396396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025640" y="3963960"/>
            <a:ext cx="28764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2564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241960" y="160020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241960" y="3963960"/>
            <a:ext cx="2876400" cy="2157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025640" y="3963960"/>
            <a:ext cx="28764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decided that it would be helpful to create a brochure to help hunters determine the best plants to include in food plots for the types of soil and climate of eastern North Carolin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started to work on my brochure after I finished my pap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of the time I spent of my brochure was on research of plant types and what environments they grow best i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 did not have a mentor but I do not think that having one would have helped me much because most of the work that I had to do was research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79600" y="43434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170160" y="3379680"/>
            <a:ext cx="2697120" cy="19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ccesses and Challeng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cc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Plant Grow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Finished the produc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alleng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Time Manage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Growing Seas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Technological problem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Weather/Hurrica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SimSun"/>
              </a:rPr>
              <a:t>Travel Time and Distanc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0020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my paper I talked about the positives and the negatives of food plo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 my product I tried to make some food plots with minimal damage to the ecosystem. I also made a brochure to help other people learn about what they needed to do to start their own food plo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roject Reflection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rom this project I learned that there are a lot more fact based arguments against hunting then I thought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ever it is my opinion that the benefits of hunting and wildlife management  far outweigh the negatives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 also learned how to make a better food plot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 plan to continue to make food plots on the land I hunt. 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pic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600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topic is the pros and cons of hunting and wildlife management including construction and maintenance of food plot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pecial Thanks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pecial tanks to my teachers for keeping me on track with the deadlines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xtra thanks to William Wescott for allowing me to put food plots on his land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 Unicode MS"/>
              </a:rPr>
              <a:t>Work Cited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1604880"/>
            <a:ext cx="773892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United States. US Census Bureau. Hunting Highlights. US Census Bureau. Web. &lt;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www.census.gov/prod/1/gen/interior/hunt.p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Carmichel, Jim. "Use of High-tech Gadgets Diminishes Hunting Skills." Outdoor Life214 (Apr. 2007): 29. Rpt. in Hunting. Ed. Dawn Laney. Detroit: Greenhaven Press, 2008. Opposing Viewpoints. Gale Opposing Viewpoints In Context. Web. 22 Mar. 201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Clark, Ward M. "Hunting Is a Natural, Ethical, and Healthy Undertaking."www.wildfowling.co.uk (2004). Rpt. in Hunting. Ed. Dawn Laney. Detroit: Greenhaven Press, 2008. Opposing Viewpoints. Gale Opposing Viewpoints In Context. Web. 21 Feb. 201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"Hunting Plays a Crucial Role in Maintaining Natural Habitats and the Environment."Hunting. Ed. Dawn Laney. Detroit: Greenhaven Press, 2008. Opposing Viewpoints. Gale Opposing Viewpoints In Context. Web. 22 Feb. 2011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ucational Exempt from Copy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imSun"/>
              </a:rPr>
              <a:t>This presentation has been prepared under the fair use exemption of the US Copyright Law and is restricted from further us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604880"/>
            <a:ext cx="7924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any question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ere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am a hu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5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wanted to learn what the arguments were against hunting to better understand why some people object to hunting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riving Ques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are some of the justifications for hunt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sis Statemen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out hunting an entire way of life will decrease; there will be a massive increase in animal-related car wrecks, an overall decrease in crop yield, a drop in the economy, and an offset of the balance that exists in today’s ecosyste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ting is an important tool for wildlife conserv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astern US has been over-browsed for many ye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ting can be a positive for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, hunters’ expenditures tota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12.3 bill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ldlife Management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ildlife management is the art of making land produce sustained annual crops of wild game for recreational use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e goal of a good wildlife management project is to…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853920" indent="-457200">
              <a:lnSpc>
                <a:spcPct val="93000"/>
              </a:lnSpc>
              <a:spcAft>
                <a:spcPts val="1026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SimSun"/>
              </a:rPr>
              <a:t>Benefit the health of the ecosystem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853920" indent="-457200">
              <a:lnSpc>
                <a:spcPct val="93000"/>
              </a:lnSpc>
              <a:spcAft>
                <a:spcPts val="1026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SimSun"/>
              </a:rPr>
              <a:t>Manage population levels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853920" indent="-457200">
              <a:lnSpc>
                <a:spcPct val="93000"/>
              </a:lnSpc>
              <a:spcAft>
                <a:spcPts val="1026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SimSun"/>
              </a:rPr>
              <a:t>Decrease wildlife damage to crops and landscaping in the are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8880" y="488880"/>
            <a:ext cx="8001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 learned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100000"/>
              </a:lnSpc>
              <a:spcAft>
                <a:spcPts val="1287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While doing my research I learned there are a lot of very valid arguments for and against hunting and the management of hunt-able animals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28760" indent="-324000">
              <a:lnSpc>
                <a:spcPct val="100000"/>
              </a:lnSpc>
              <a:spcAft>
                <a:spcPts val="1287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28760"/>
                <a:tab algn="l" pos="885960"/>
                <a:tab algn="l" pos="1343160"/>
                <a:tab algn="l" pos="1800360"/>
                <a:tab algn="l" pos="2257560"/>
                <a:tab algn="l" pos="2714760"/>
                <a:tab algn="l" pos="3171960"/>
                <a:tab algn="l" pos="3629160"/>
                <a:tab algn="l" pos="4086360"/>
                <a:tab algn="l" pos="4543560"/>
                <a:tab algn="l" pos="5000760"/>
                <a:tab algn="l" pos="5457960"/>
                <a:tab algn="l" pos="5915160"/>
                <a:tab algn="l" pos="6372360"/>
                <a:tab algn="l" pos="6829560"/>
                <a:tab algn="l" pos="7286760"/>
                <a:tab algn="l" pos="7743960"/>
                <a:tab algn="l" pos="8201160"/>
                <a:tab algn="l" pos="8658360"/>
                <a:tab algn="l" pos="9115560"/>
                <a:tab algn="l" pos="95727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od plots are not always beneficial to ecosystems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88880" y="488880"/>
            <a:ext cx="79995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at I learned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604880"/>
            <a:ext cx="792468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argument against food plots is food plots are created for the benefit of 10% on animals in an area while removing habitat for 90% of animals in an are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However food plots and other wildlife management techniques when done correctly can greatly improve the health of the ecosystem on and around the property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0:11:21Z</dcterms:created>
  <dc:creator>Mense</dc:creator>
  <dc:description/>
  <dc:language>en-US</dc:language>
  <cp:lastModifiedBy>Mense</cp:lastModifiedBy>
  <dcterms:modified xsi:type="dcterms:W3CDTF">2012-04-17T20:34:35Z</dcterms:modified>
  <cp:revision>39</cp:revision>
  <dc:subject/>
  <dc:title>PowerPoint Presentation</dc:title>
</cp:coreProperties>
</file>